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CCA-C179-4C05-ADEB-34850119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B6C-356C-45FB-9414-F8719D6A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998-6C67-41AD-837F-568B97E9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2B1-B57F-417A-AB37-5824FD9E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4A9-BA5B-4130-B07C-D44B3BF9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C45-5FE7-4B8F-9A16-056E0011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971-7C14-4561-8DCC-61EBAA2B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F7E-10BE-4542-BED7-A91CBA4A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8BE-830F-4A7D-93EC-D19E66A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6C2-CB8C-428C-BB05-A5094AB2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A37-808D-4977-AAA7-64BC2872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AA5-CF88-4104-B361-2C4DF7CF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5C7D-24CE-485C-BE2E-57336C54E74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AJUSTE FINO” ZONAS CON LIMITACIONE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TREMADURA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COMITÉ DE SEGU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PDR EXTREMADURA 2014-2022</a:t>
            </a:r>
            <a:r>
              <a:rPr b="1" lang="pl-PL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20 junio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317680" y="2062080"/>
          <a:ext cx="4257720" cy="3803760"/>
        </p:xfrm>
        <a:graphic>
          <a:graphicData uri="http://schemas.openxmlformats.org/drawingml/2006/table">
            <a:tbl>
              <a:tblPr/>
              <a:tblGrid>
                <a:gridCol w="1330560"/>
                <a:gridCol w="2927160"/>
              </a:tblGrid>
              <a:tr h="76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ed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s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n Ben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re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ch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ngab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nueva de la Se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ángulo 3"/>
          <p:cNvSpPr/>
          <p:nvPr/>
        </p:nvSpPr>
        <p:spPr>
          <a:xfrm>
            <a:off x="1003320" y="1057320"/>
            <a:ext cx="72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ciséis municipios que en el período 2007 –2013, no reunían la consideración de desfavorecidos por despoblamiento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87" name="Rectángulo 3"/>
          <p:cNvSpPr/>
          <p:nvPr/>
        </p:nvSpPr>
        <p:spPr>
          <a:xfrm>
            <a:off x="923760" y="1197000"/>
            <a:ext cx="72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que en el período 2007 –2013, reunían la consideración de desfavorecidos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ORDIN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2876400"/>
          <a:ext cx="4748400" cy="2054520"/>
        </p:xfrm>
        <a:graphic>
          <a:graphicData uri="http://schemas.openxmlformats.org/drawingml/2006/table">
            <a:tbl>
              <a:tblPr/>
              <a:tblGrid>
                <a:gridCol w="2327400"/>
                <a:gridCol w="2421000"/>
              </a:tblGrid>
              <a:tr h="293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atej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j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ueblonuevo de Miramo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Rosale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alay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ié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5"/>
          <p:cNvSpPr/>
          <p:nvPr/>
        </p:nvSpPr>
        <p:spPr>
          <a:xfrm>
            <a:off x="439560" y="1671480"/>
            <a:ext cx="833616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proponen distintos métod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versiones que podrían considerarse en frente al criterio de aridez (regadío, invernad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 económica. Producción st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ndimiento medio de un cultivo do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ga gan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os permanentes / densidad de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tividad normal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arios y métod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ángulo 6"/>
          <p:cNvSpPr/>
          <p:nvPr/>
        </p:nvSpPr>
        <p:spPr>
          <a:xfrm>
            <a:off x="314280" y="1000080"/>
            <a:ext cx="85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o (07/2016) Ajuste fino para limitaciones naturales y específicas signifi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097000" y="4282920"/>
          <a:ext cx="6562800" cy="1920960"/>
        </p:xfrm>
        <a:graphic>
          <a:graphicData uri="http://schemas.openxmlformats.org/drawingml/2006/table">
            <a:tbl>
              <a:tblPr/>
              <a:tblGrid>
                <a:gridCol w="878040"/>
                <a:gridCol w="2143080"/>
                <a:gridCol w="830160"/>
                <a:gridCol w="976320"/>
                <a:gridCol w="939960"/>
                <a:gridCol w="795240"/>
              </a:tblGrid>
              <a:tr h="42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. Total (K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U_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 regad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regadio &gt;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563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33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a de la 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0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5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1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5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117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695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6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994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29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974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838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3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606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444600" y="591120"/>
            <a:ext cx="825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utilizado el ajuste de l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ficies de regadí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ntendiendo que es u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ícola de explotación diferenciado, posibilita la existencia de cultivos y producciones muy superiores a las superficies de secan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de modo que el rendimiento económico obtenido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mite considerar superadas las limitaciones natural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simulaciones efectuadas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la designación de las zonas con limitaciones naturales significativas tras el ajuste de las superficies de regadío, existe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en los que su superficie agrícola de regadío no cumple los umbrales mínimos de los criterios empleados en la delimit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La relación de municipios que quedarían excluidos de las zonas con limitaciones naturales son (% SAU superior al 7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4630680"/>
            <a:ext cx="182880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" descr=""/>
          <p:cNvPicPr/>
          <p:nvPr/>
        </p:nvPicPr>
        <p:blipFill>
          <a:blip r:embed="rId2"/>
          <a:stretch/>
        </p:blipFill>
        <p:spPr>
          <a:xfrm>
            <a:off x="1125360" y="0"/>
            <a:ext cx="6643800" cy="6140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6664320" y="401760"/>
            <a:ext cx="1266840" cy="10951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5"/>
          <p:cNvSpPr/>
          <p:nvPr/>
        </p:nvSpPr>
        <p:spPr>
          <a:xfrm>
            <a:off x="7091280" y="627120"/>
            <a:ext cx="1322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ORDINA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091280" y="841320"/>
            <a:ext cx="15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MONTAÑ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Texto 7"/>
          <p:cNvSpPr/>
          <p:nvPr/>
        </p:nvSpPr>
        <p:spPr>
          <a:xfrm>
            <a:off x="7080120" y="1068480"/>
            <a:ext cx="18147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ESPECÍF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Texto 8"/>
          <p:cNvSpPr/>
          <p:nvPr/>
        </p:nvSpPr>
        <p:spPr>
          <a:xfrm>
            <a:off x="7091280" y="1282680"/>
            <a:ext cx="158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NATUR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adroTexto 9"/>
          <p:cNvSpPr/>
          <p:nvPr/>
        </p:nvSpPr>
        <p:spPr>
          <a:xfrm>
            <a:off x="5997600" y="4983120"/>
            <a:ext cx="2897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LIMITACIÓN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0" y="3619440"/>
            <a:ext cx="183816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2405160" y="1236600"/>
            <a:ext cx="4878360" cy="4689360"/>
          </a:xfrm>
          <a:prstGeom prst="rect">
            <a:avLst/>
          </a:prstGeom>
          <a:ln w="0">
            <a:noFill/>
          </a:ln>
        </p:spPr>
      </p:pic>
      <p:sp>
        <p:nvSpPr>
          <p:cNvPr id="116" name="CuadroTexto 3"/>
          <p:cNvSpPr/>
          <p:nvPr/>
        </p:nvSpPr>
        <p:spPr>
          <a:xfrm>
            <a:off x="0" y="279360"/>
            <a:ext cx="3773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IMITACIÓN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"/>
          <p:cNvPicPr/>
          <p:nvPr/>
        </p:nvPicPr>
        <p:blipFill>
          <a:blip r:embed="rId1"/>
          <a:stretch/>
        </p:blipFill>
        <p:spPr>
          <a:xfrm>
            <a:off x="0" y="6278400"/>
            <a:ext cx="8894880" cy="5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74800" y="1703520"/>
          <a:ext cx="7386480" cy="2468520"/>
        </p:xfrm>
        <a:graphic>
          <a:graphicData uri="http://schemas.openxmlformats.org/drawingml/2006/table">
            <a:tbl>
              <a:tblPr/>
              <a:tblGrid>
                <a:gridCol w="3371760"/>
                <a:gridCol w="2008080"/>
                <a:gridCol w="2006640"/>
              </a:tblGrid>
              <a:tr h="54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07 -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14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de mon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naturales signific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especí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sin limi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MUNICI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-468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8 Rectángulo"/>
          <p:cNvSpPr/>
          <p:nvPr/>
        </p:nvSpPr>
        <p:spPr>
          <a:xfrm>
            <a:off x="0" y="-144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0" y="922320"/>
            <a:ext cx="492120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_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6"/>
          <p:cNvSpPr/>
          <p:nvPr/>
        </p:nvSpPr>
        <p:spPr>
          <a:xfrm>
            <a:off x="326880" y="3975120"/>
            <a:ext cx="8812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especto de los beneficiarios de las zonas que ya no sean subvencionables como consecuencia de la nueva delimitación a que se refiere el artículo 32, apartado 3, 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dichos pagos serán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decrecientes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durante un período máximo de cuatro años.</a:t>
            </a: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Dicho período se contará a partir de la fecha en que se haya completado la delimitación con arreglo al artículo 33, apartado 3, y a más tardar en 2018. Los pagos empezarán con un máximo del 80 % del promedio del pago que se fije en el programa para el período de programación 2007-2013 de conformidad con el artículo 36, letra a), inciso ii) del Reglamento (CE) n o 1698/2005, y finalizarán en 2020 a más tardar con un máximo del 2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n 3" descr=""/>
          <p:cNvPicPr/>
          <p:nvPr/>
        </p:nvPicPr>
        <p:blipFill>
          <a:blip r:embed="rId1"/>
          <a:stretch/>
        </p:blipFill>
        <p:spPr>
          <a:xfrm>
            <a:off x="0" y="626112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Rectángulo 2"/>
          <p:cNvSpPr/>
          <p:nvPr/>
        </p:nvSpPr>
        <p:spPr>
          <a:xfrm>
            <a:off x="420840" y="557280"/>
            <a:ext cx="825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lo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teriores período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os criterios empleados para la delimitación de las zonas con limitaciones naturales fue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desfavorecidas de Montaña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lotaciones agrarias con una combinación de los dos factores anteriores (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titud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pendiente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con riesgo de despobl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Condiciones simultáne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cia de tierr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co productiva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ndices de caracterización económica agraria muy baj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 respecto a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casa densidad, o tendencia a la disminución, de la población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depende de la actividad agraria y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ya disminución implicaría la dificultad de mantenimiento de viabilidad la actividad económica y soci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  Zonas con dificultades especiale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n aquellas en las que las actividades productivas están limitadas para evitar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 impacto en el hábitat natur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tener en ellas la gestión de las tierras para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eservar o mejorar el medio ambiente</a:t>
            </a: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8" name="Rectángulo 2"/>
          <p:cNvSpPr/>
          <p:nvPr/>
        </p:nvSpPr>
        <p:spPr>
          <a:xfrm>
            <a:off x="646200" y="619200"/>
            <a:ext cx="78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artículo 32 “Designación de zonas con limitaciones naturales u otras limitaciones específicas “, del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lamento (UE) nº 1305/2013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Parlamento Europeo y del Consejo de 17 de diciembre de 2013 relativo a la ayuda al desarrollo rural a través del Fondo Europeo Agrícola de Desarrollo Rural (FEADER) y por el que se deroga el Reglamento (CE) nº 1698/2005 del Consejo, determin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designarán, sobre la base de los apartados 2, 3 y 4, las zonas que pueden optar a los pagos previstos en el artículo 31 de acuerdo con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e montaña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istintas de las de montaña con limitaciones naturales significativ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Otras zonas con limitaciones específic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ROGRAMA OPERATIVO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2" name="Rectángulo 2"/>
          <p:cNvSpPr/>
          <p:nvPr/>
        </p:nvSpPr>
        <p:spPr>
          <a:xfrm>
            <a:off x="523800" y="538200"/>
            <a:ext cx="80964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DRÁN OPTAR A LOS PA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dades Administrativas Locales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LAU 2) o en el nivel de una unidad local claramente delimitada que cubra una sola zona geográfica contigua precisa, dotada de una identidad económica y administrativa qu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 menos, el 60 % de la superficie agrícola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umpl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o mínimo, uno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os criterios enumerados en el anexo III del Reglamento 1305/2013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GRUES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berán llevar a cabo una delimitac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ecis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arreglo 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criterios objetivos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el fin 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excluir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zonas en que se hayan documentado limitaciones naturales significativas pero qu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hayan superado tales limitaciones como consecuencia de las inversiones o la actividad económic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FIN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Rectángulo 2"/>
          <p:cNvSpPr/>
          <p:nvPr/>
        </p:nvSpPr>
        <p:spPr>
          <a:xfrm>
            <a:off x="385920" y="1031760"/>
            <a:ext cx="850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el actual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de Desarrollo Rural 2014-2020, Submedida 13.2 Pago de compensación para otras áreas que afrontan limitaciones naturales considerable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apartado 8.2.11.3.2.6. 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diciones de admisibilidad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stable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relación con las zon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lo establecido en el apartado 5 del artículo 31 del Reglamento (UE) 1305/2013, los Estados miembros aplicarán la nueva delimitación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 más tardar en 2018</a:t>
            </a:r>
            <a:r>
              <a:rPr b="0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ientras se continuará con la del período 2007-2013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; (…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628560" y="2763720"/>
          <a:ext cx="8266320" cy="2438640"/>
        </p:xfrm>
        <a:graphic>
          <a:graphicData uri="http://schemas.openxmlformats.org/drawingml/2006/table">
            <a:tbl>
              <a:tblPr/>
              <a:tblGrid>
                <a:gridCol w="1928880"/>
                <a:gridCol w="4383000"/>
                <a:gridCol w="1954440"/>
              </a:tblGrid>
              <a:tr h="3052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TE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FIN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MB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idez (o sequ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lación entre las precipitaciones anuales (P) y la evapotranspiración potencial anual (E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P / ETP ≤ 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xtura y dureza desfavor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mentos gruesos en el suelo (% volumétr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diente escar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bio de elevación respecto a la distancia planimétric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6"/>
          <p:cNvSpPr/>
          <p:nvPr/>
        </p:nvSpPr>
        <p:spPr>
          <a:xfrm>
            <a:off x="628560" y="1376280"/>
            <a:ext cx="82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metodología empleada aparece desarrollada y justificada en el Marco Nacional,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optado por la Comisión el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día 13 de febre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7920" y="0"/>
            <a:ext cx="4438800" cy="310680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3"/>
          <a:stretch/>
        </p:blipFill>
        <p:spPr>
          <a:xfrm>
            <a:off x="4700520" y="0"/>
            <a:ext cx="442908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Imagen 5" descr=""/>
          <p:cNvPicPr/>
          <p:nvPr/>
        </p:nvPicPr>
        <p:blipFill>
          <a:blip r:embed="rId4"/>
          <a:stretch/>
        </p:blipFill>
        <p:spPr>
          <a:xfrm>
            <a:off x="4700520" y="3147840"/>
            <a:ext cx="4443480" cy="312264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"/>
          <p:cNvPicPr/>
          <p:nvPr/>
        </p:nvPicPr>
        <p:blipFill>
          <a:blip r:embed="rId5"/>
          <a:stretch/>
        </p:blipFill>
        <p:spPr>
          <a:xfrm>
            <a:off x="0" y="3156120"/>
            <a:ext cx="444024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Imagen 2" descr=""/>
          <p:cNvPicPr/>
          <p:nvPr/>
        </p:nvPicPr>
        <p:blipFill>
          <a:blip r:embed="rId2"/>
          <a:stretch/>
        </p:blipFill>
        <p:spPr>
          <a:xfrm>
            <a:off x="4737240" y="-6480"/>
            <a:ext cx="44067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Imagen 4" descr=""/>
          <p:cNvPicPr/>
          <p:nvPr/>
        </p:nvPicPr>
        <p:blipFill>
          <a:blip r:embed="rId3"/>
          <a:stretch/>
        </p:blipFill>
        <p:spPr>
          <a:xfrm>
            <a:off x="0" y="3121200"/>
            <a:ext cx="4483080" cy="3149280"/>
          </a:xfrm>
          <a:prstGeom prst="rect">
            <a:avLst/>
          </a:prstGeom>
          <a:ln w="0">
            <a:noFill/>
          </a:ln>
        </p:spPr>
      </p:pic>
      <p:pic>
        <p:nvPicPr>
          <p:cNvPr id="75" name="Imagen 6" descr=""/>
          <p:cNvPicPr/>
          <p:nvPr/>
        </p:nvPicPr>
        <p:blipFill>
          <a:blip r:embed="rId4"/>
          <a:stretch/>
        </p:blipFill>
        <p:spPr>
          <a:xfrm>
            <a:off x="0" y="0"/>
            <a:ext cx="4483080" cy="30891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7" descr=""/>
          <p:cNvPicPr/>
          <p:nvPr/>
        </p:nvPicPr>
        <p:blipFill>
          <a:blip r:embed="rId5"/>
          <a:stretch/>
        </p:blipFill>
        <p:spPr>
          <a:xfrm>
            <a:off x="4737240" y="3176640"/>
            <a:ext cx="44067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913960" cy="63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21:03:59Z</dcterms:created>
  <dc:creator>Usuario</dc:creator>
  <dc:description/>
  <dc:language>en-US</dc:language>
  <cp:lastModifiedBy>Usuario</cp:lastModifiedBy>
  <dcterms:modified xsi:type="dcterms:W3CDTF">2017-06-20T08:12:32Z</dcterms:modified>
  <cp:revision>41</cp:revision>
  <dc:subject/>
  <dc:title>Presentación de PowerPoint</dc:title>
</cp:coreProperties>
</file>